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4EE0-13FD-4530-B9D8-3B24B8E05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86B-D943-4E54-9FEC-77AC314BA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6BB2-7E07-41C8-BC59-9EC240794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F9EF-BF25-4433-AE93-239C5869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5480-05C5-447A-82A0-FD1302BB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4C17-C8A2-48D7-9429-3DD047E5C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3C36-83F8-4254-AFAC-78270ABD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35AE-8769-4BE0-ACCA-5766132EC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BD9C-5238-49DC-814A-B231A90F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1CE5-A991-46B6-96ED-A294C99ED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1E57-5E92-4E76-8756-E3808627E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F2FE-7C0F-44D0-BCD2-F594A158E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8C95-E464-4CEA-94BB-693C64FEB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8F3-CAAE-4E0C-A00B-E71E83AE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369A-4D4C-4BAC-A500-0B656BD3C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6F88-48D0-48F3-A30B-7D5C4FBF0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A728-9C63-4218-93E9-6F8A9941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B2EF-0467-442E-8E51-68AC197C4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4105-F551-4067-994A-7019D1A35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F465-2D06-405B-BDF2-CE74F09BA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3793-36DB-470D-8BE1-DABD06A7D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4A09-684F-4D03-8601-AED643EF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17C9-BD99-41E6-B3DD-913CD6D9C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AB96-23AE-4843-9FB2-BCC6C810F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E8C7-7BA4-4D53-AD23-9D93AFB26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924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3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5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924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3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932A-9A55-4ED2-9B29-A8B993606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DEEB-5CFE-4D2E-980D-D1DB80C9B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924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83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5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924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83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A464-0BFF-44B3-9DE1-A28153A8F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8A00-6DFC-43C2-954B-507F07622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8125-7C4B-4BAB-8D2B-36F839058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F7CF-5369-43A7-8948-98DE8193F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9F44-1BED-4EC0-A279-0A092F860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8DA7-2934-4718-BC52-B4A8CA24F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982A-C38A-4175-A692-2BCBED25D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260280"/>
            <a:ext cx="322200" cy="47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1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4400" y="6858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d18bff"/>
              </a:gs>
              <a:gs pos="100000">
                <a:srgbClr val="99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990360"/>
            <a:ext cx="8683560" cy="460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00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D006-837D-4C7C-9895-535F84A40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4114800" y="5334120"/>
            <a:ext cx="895320" cy="636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558720" y="2625840"/>
            <a:ext cx="322200" cy="47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25480" y="2625840"/>
            <a:ext cx="328680" cy="474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d1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66640" y="3048120"/>
            <a:ext cx="422280" cy="47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36720" y="30481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52280" y="2975040"/>
            <a:ext cx="560520" cy="422280"/>
          </a:xfrm>
          <a:prstGeom prst="rect">
            <a:avLst/>
          </a:prstGeom>
          <a:gradFill rotWithShape="0">
            <a:gsLst>
              <a:gs pos="0">
                <a:srgbClr val="d18bff"/>
              </a:gs>
              <a:gs pos="100000">
                <a:srgbClr val="99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787320" y="2438280"/>
            <a:ext cx="31680" cy="1052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00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8076960" y="655272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C77B-9953-4144-AB21-503F156A23B6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22096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Backtracking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7F2D-26E9-4F72-9E49-9D7615386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Real and virtual tree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type of data structure called a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e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diagram the sequence of choices we make, the diagram looks like a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act, we did just this a couple of slides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cktracking algorithm “sweeps out a tree” in “problem spa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2593-7464-42E8-89DE-F345FB0AC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backtracking algorithm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tracking is really quite simple--we “explore” each node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explore” node 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1.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If N is a goal node, return “succ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2.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If N is a leaf node, return “fail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3.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For each child C of 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3.1.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Explor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3.1.1.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If C was successful, return “succ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4.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Return “fail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BD53-3ECD-4AE5-BE25-24332E6A1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Full example: Map coloring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ur Color 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s that any map on a plane can be colored with no more than four colors, so that no two countries with a common border are the same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ost maps, finding a legal coloring is ea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maps, it can be fairly difficult to find a legal col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evelop a complete Java program to solve this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0086-A120-4AE4-A0C5-51197EC0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Data structure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a data structure that is easy to work with, and suppo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 a color for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ountry, finding all adjacent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do this with two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ray of “colors”, wher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countryColor[i]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olor of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agged array of adjacent countries, where</a:t>
            </a:r>
            <a:r>
              <a:rPr b="0" lang="en-US" sz="2400" spc="-1" strike="noStrike">
                <a:solidFill>
                  <a:srgbClr val="33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map[i][j]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ry adjacent to country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map[5][3]==8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s th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ntry adjacent to country 5 is country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980B-BAC9-4C7C-BF34-83AE3A0D2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8960" y="342720"/>
            <a:ext cx="779292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reating the map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293" name="Group 29"/>
          <p:cNvGrpSpPr/>
          <p:nvPr/>
        </p:nvGrpSpPr>
        <p:grpSpPr>
          <a:xfrm>
            <a:off x="5486400" y="1371600"/>
            <a:ext cx="2362320" cy="1828800"/>
            <a:chOff x="5486400" y="1371600"/>
            <a:chExt cx="2362320" cy="1828800"/>
          </a:xfrm>
        </p:grpSpPr>
        <p:grpSp>
          <p:nvGrpSpPr>
            <p:cNvPr id="294" name="Group 26"/>
            <p:cNvGrpSpPr/>
            <p:nvPr/>
          </p:nvGrpSpPr>
          <p:grpSpPr>
            <a:xfrm>
              <a:off x="5486400" y="1371600"/>
              <a:ext cx="2362320" cy="1828800"/>
              <a:chOff x="5486400" y="1371600"/>
              <a:chExt cx="2362320" cy="1828800"/>
            </a:xfrm>
          </p:grpSpPr>
          <p:sp>
            <p:nvSpPr>
              <p:cNvPr id="295" name="Freeform 5"/>
              <p:cNvSpPr/>
              <p:nvPr/>
            </p:nvSpPr>
            <p:spPr>
              <a:xfrm>
                <a:off x="5824800" y="1371600"/>
                <a:ext cx="2023920" cy="1393560"/>
              </a:xfrm>
              <a:custGeom>
                <a:avLst/>
                <a:gdLst>
                  <a:gd name="textAreaLeft" fmla="*/ 0 w 2023920"/>
                  <a:gd name="textAreaRight" fmla="*/ 2024280 w 2023920"/>
                  <a:gd name="textAreaTop" fmla="*/ 0 h 1393560"/>
                  <a:gd name="textAreaBottom" fmla="*/ 1393920 h 1393560"/>
                </a:gdLst>
                <a:ahLst/>
                <a:rect l="textAreaLeft" t="textAreaTop" r="textAreaRight" b="textAreaBottom"/>
                <a:pathLst>
                  <a:path w="1152" h="768">
                    <a:moveTo>
                      <a:pt x="0" y="0"/>
                    </a:moveTo>
                    <a:lnTo>
                      <a:pt x="0" y="240"/>
                    </a:lnTo>
                    <a:lnTo>
                      <a:pt x="864" y="240"/>
                    </a:lnTo>
                    <a:lnTo>
                      <a:pt x="864" y="768"/>
                    </a:lnTo>
                    <a:lnTo>
                      <a:pt x="1152" y="768"/>
                    </a:lnTo>
                    <a:lnTo>
                      <a:pt x="11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6"/>
              <p:cNvSpPr/>
              <p:nvPr/>
            </p:nvSpPr>
            <p:spPr>
              <a:xfrm>
                <a:off x="7005600" y="1806480"/>
                <a:ext cx="336600" cy="609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583320" y="2243160"/>
                <a:ext cx="758880" cy="522000"/>
              </a:xfrm>
              <a:custGeom>
                <a:avLst/>
                <a:gdLst>
                  <a:gd name="textAreaLeft" fmla="*/ 0 w 758880"/>
                  <a:gd name="textAreaRight" fmla="*/ 759240 w 7588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432" h="288">
                    <a:moveTo>
                      <a:pt x="432" y="288"/>
                    </a:moveTo>
                    <a:lnTo>
                      <a:pt x="0" y="288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6161040" y="2068560"/>
                <a:ext cx="844560" cy="347400"/>
              </a:xfrm>
              <a:custGeom>
                <a:avLst/>
                <a:gdLst>
                  <a:gd name="textAreaLeft" fmla="*/ 0 w 844560"/>
                  <a:gd name="textAreaRight" fmla="*/ 844920 w 84456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480" h="192">
                    <a:moveTo>
                      <a:pt x="240" y="96"/>
                    </a:moveTo>
                    <a:lnTo>
                      <a:pt x="336" y="96"/>
                    </a:lnTo>
                    <a:lnTo>
                      <a:pt x="336" y="192"/>
                    </a:lnTo>
                    <a:lnTo>
                      <a:pt x="480" y="192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240" y="192"/>
                    </a:lnTo>
                    <a:lnTo>
                      <a:pt x="24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5908680" y="1981080"/>
                <a:ext cx="1096920" cy="60948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624" h="336">
                    <a:moveTo>
                      <a:pt x="624" y="48"/>
                    </a:moveTo>
                    <a:lnTo>
                      <a:pt x="624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384" y="336"/>
                    </a:lnTo>
                    <a:lnTo>
                      <a:pt x="384" y="240"/>
                    </a:lnTo>
                    <a:lnTo>
                      <a:pt x="144" y="240"/>
                    </a:lnTo>
                    <a:lnTo>
                      <a:pt x="144" y="48"/>
                    </a:lnTo>
                    <a:lnTo>
                      <a:pt x="6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5486400" y="1371600"/>
                <a:ext cx="2362320" cy="1828800"/>
              </a:xfrm>
              <a:custGeom>
                <a:avLst/>
                <a:gdLst>
                  <a:gd name="textAreaLeft" fmla="*/ 0 w 2362320"/>
                  <a:gd name="textAreaRight" fmla="*/ 2362680 w 236232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344" h="1008">
                    <a:moveTo>
                      <a:pt x="192" y="0"/>
                    </a:moveTo>
                    <a:lnTo>
                      <a:pt x="192" y="240"/>
                    </a:lnTo>
                    <a:lnTo>
                      <a:pt x="864" y="240"/>
                    </a:lnTo>
                    <a:lnTo>
                      <a:pt x="864" y="336"/>
                    </a:lnTo>
                    <a:lnTo>
                      <a:pt x="240" y="336"/>
                    </a:lnTo>
                    <a:lnTo>
                      <a:pt x="240" y="864"/>
                    </a:lnTo>
                    <a:lnTo>
                      <a:pt x="1344" y="864"/>
                    </a:lnTo>
                    <a:lnTo>
                      <a:pt x="1344" y="1008"/>
                    </a:lnTo>
                    <a:lnTo>
                      <a:pt x="0" y="1008"/>
                    </a:lnTo>
                    <a:lnTo>
                      <a:pt x="0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>
                <a:off x="5908680" y="2590560"/>
                <a:ext cx="1940040" cy="347760"/>
              </a:xfrm>
              <a:custGeom>
                <a:avLst/>
                <a:gdLst>
                  <a:gd name="textAreaLeft" fmla="*/ 0 w 1940040"/>
                  <a:gd name="textAreaRight" fmla="*/ 1940400 w 194004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104" h="192">
                    <a:moveTo>
                      <a:pt x="1104" y="192"/>
                    </a:moveTo>
                    <a:lnTo>
                      <a:pt x="1104" y="96"/>
                    </a:lnTo>
                    <a:lnTo>
                      <a:pt x="384" y="96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1104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7"/>
            <p:cNvGrpSpPr/>
            <p:nvPr/>
          </p:nvGrpSpPr>
          <p:grpSpPr>
            <a:xfrm>
              <a:off x="5486400" y="1409760"/>
              <a:ext cx="1855800" cy="1530360"/>
              <a:chOff x="5486400" y="1409760"/>
              <a:chExt cx="1855800" cy="1530360"/>
            </a:xfrm>
          </p:grpSpPr>
          <p:sp>
            <p:nvSpPr>
              <p:cNvPr id="303" name="Text Box 12"/>
              <p:cNvSpPr/>
              <p:nvPr/>
            </p:nvSpPr>
            <p:spPr>
              <a:xfrm>
                <a:off x="5486400" y="1409760"/>
                <a:ext cx="33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13"/>
              <p:cNvSpPr/>
              <p:nvPr/>
            </p:nvSpPr>
            <p:spPr>
              <a:xfrm>
                <a:off x="5908680" y="140976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Text Box 14"/>
              <p:cNvSpPr/>
              <p:nvPr/>
            </p:nvSpPr>
            <p:spPr>
              <a:xfrm>
                <a:off x="7002360" y="1757160"/>
                <a:ext cx="33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15"/>
              <p:cNvSpPr/>
              <p:nvPr/>
            </p:nvSpPr>
            <p:spPr>
              <a:xfrm>
                <a:off x="5824440" y="193176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Text Box 16"/>
              <p:cNvSpPr/>
              <p:nvPr/>
            </p:nvSpPr>
            <p:spPr>
              <a:xfrm>
                <a:off x="6161040" y="2019240"/>
                <a:ext cx="33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7"/>
              <p:cNvSpPr/>
              <p:nvPr/>
            </p:nvSpPr>
            <p:spPr>
              <a:xfrm>
                <a:off x="6583320" y="236664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18"/>
              <p:cNvSpPr/>
              <p:nvPr/>
            </p:nvSpPr>
            <p:spPr>
              <a:xfrm>
                <a:off x="5992920" y="2541240"/>
                <a:ext cx="33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ebuchet MS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0" name="Text Box 25"/>
          <p:cNvSpPr/>
          <p:nvPr/>
        </p:nvSpPr>
        <p:spPr>
          <a:xfrm>
            <a:off x="762120" y="190512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nt map[][]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void createMap() {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 = new int[7][]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0] = new int[] { 1, 4, 2, 5 }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1] = new int[] { 0, 4, 6, 5 }; 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2] = new int[] { 0, 4, 3, 6, 5 }; 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3] = new int[] { 2, 4, 6 }; 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4] = new int[] { 0, 1, 6, 3, 2 }; 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5] = new int[] { 2, 6, 1, 0 }; 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map[6] = new int[] { 2, 3, 4, 1, 5 }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5E6E-50CA-4CDE-ADA5-AA4FB8131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Setting the initial color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914400" y="16765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static final int NONE = 0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static final int RED = 1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static final int YELLOW = 2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static final int GREEN = 3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static final int BLUE = 4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nt mapColors[] = { NONE, NONE, NONE, NONE,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                             NONE, NONE, NONE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DB04-32A6-4DDB-B39D-7E8B2A436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main program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6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enclosing class i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Colored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public static void main(String args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ColoredMap m = new ColoredMa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m.createMa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boolean result = m.explore(0, RE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System.out.println(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m.printMa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8A40-EF71-445E-A48C-274CFA99D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backtracking method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oolean explore(int country, int color)</a:t>
            </a: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f (country &gt;= map.length) return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f (okToColor(country, color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mapColors[country] =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for (int i = RED; i &lt;= BLUE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f (explore(country + 1, i)) return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C881-43A4-4425-8238-7196A4079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hecking if a color can be used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boolean okToColor(int country, int color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for (int i = 0; i &lt; map[country].length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nt ithAdjCountry = map[country]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if (mapColors[ithAdjCountry] == color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7EF2-BA67-49B8-8F11-2191DF713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Printing the result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80880" y="1447920"/>
            <a:ext cx="830592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void printMap() {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for (int i = 0; i &lt; mapColors.length; i++) {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System.out.print("map[" + i + "] is ")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switch (mapColors[i]) {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    case NONE:    System.out.println("none");   break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    case RED:       System.out.println("red");     break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    case YELLOW: System.out.println("yellow"); break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    case GREEN:   System.out.println("green");  break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    case BLUE:     System.out.println("blue");     break;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     }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      }</a:t>
            </a:r>
            <a:br>
              <a:rPr sz="2000"/>
            </a:br>
            <a:r>
              <a:rPr b="0" lang="en-US" sz="2000" spc="-1" strike="noStrike">
                <a:solidFill>
                  <a:srgbClr val="3300ff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E3CA-7364-40BB-8217-BE49E2DCB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030"/>
          <p:cNvGrpSpPr/>
          <p:nvPr/>
        </p:nvGrpSpPr>
        <p:grpSpPr>
          <a:xfrm>
            <a:off x="380880" y="2362320"/>
            <a:ext cx="3962520" cy="380880"/>
            <a:chOff x="380880" y="2362320"/>
            <a:chExt cx="3962520" cy="380880"/>
          </a:xfrm>
        </p:grpSpPr>
        <p:sp>
          <p:nvSpPr>
            <p:cNvPr id="103" name="Rectangle 1028"/>
            <p:cNvSpPr/>
            <p:nvPr/>
          </p:nvSpPr>
          <p:spPr>
            <a:xfrm>
              <a:off x="380880" y="2362320"/>
              <a:ext cx="3962520" cy="380880"/>
            </a:xfrm>
            <a:prstGeom prst="rect">
              <a:avLst/>
            </a:prstGeom>
            <a:solidFill>
              <a:srgbClr val="cce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1029"/>
            <p:cNvSpPr/>
            <p:nvPr/>
          </p:nvSpPr>
          <p:spPr>
            <a:xfrm>
              <a:off x="457200" y="24382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A short list of categorie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types we will consider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recursive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tracking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and conquer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dy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 and bou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te force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1727-4BC2-4F10-993A-8357DD8E0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Recap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ent through all the countries recursively, starting with country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country we had to decide a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d to be different from all adjacent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ould not find a legal color, we reported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ould find a color, we used it and recurred with the next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ran out of countries (colored them all), we reporte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returned from the topmost call, we wer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24EE-3863-410C-8CC9-1DC0D613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End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7929-3F67-42BB-AA8B-CA0E19FE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Backtracking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you have to make a seri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ision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ong var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ice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have enough information to know what to 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ecision leads to a new set of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equence of choices (possibly more than one) may be a solution to your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cktrac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ethodical way of trying out various sequences of decisions, until you find one that “work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E81A-DCFA-4F34-A85E-3740D0594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Solving a maz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maze, find a path from start to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intersection, you have to decide between three or fewer cho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stra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have enough information to choose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hoice leads to another set of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sequences of choices may (or may not) lead to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ypes of maze problem can be solved with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ECA3-68C9-4590-800F-066228600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oloring a map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sh to color a map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ore than four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, yellow, green, b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acent countries must be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have enough information to choose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hoice leads to another set of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sequences of choices may (or may not) lead to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oloring problems can be solved with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48"/>
          <p:cNvGrpSpPr/>
          <p:nvPr/>
        </p:nvGrpSpPr>
        <p:grpSpPr>
          <a:xfrm>
            <a:off x="5638680" y="1523880"/>
            <a:ext cx="2133720" cy="1600200"/>
            <a:chOff x="5638680" y="1523880"/>
            <a:chExt cx="2133720" cy="1600200"/>
          </a:xfrm>
        </p:grpSpPr>
        <p:sp>
          <p:nvSpPr>
            <p:cNvPr id="117" name="Freeform 4"/>
            <p:cNvSpPr/>
            <p:nvPr/>
          </p:nvSpPr>
          <p:spPr>
            <a:xfrm>
              <a:off x="5943600" y="1523880"/>
              <a:ext cx="1828800" cy="121932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52" h="768">
                  <a:moveTo>
                    <a:pt x="0" y="0"/>
                  </a:moveTo>
                  <a:lnTo>
                    <a:pt x="0" y="240"/>
                  </a:lnTo>
                  <a:lnTo>
                    <a:pt x="864" y="240"/>
                  </a:lnTo>
                  <a:lnTo>
                    <a:pt x="864" y="768"/>
                  </a:lnTo>
                  <a:lnTo>
                    <a:pt x="1152" y="768"/>
                  </a:lnTo>
                  <a:lnTo>
                    <a:pt x="1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00ff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5"/>
            <p:cNvSpPr/>
            <p:nvPr/>
          </p:nvSpPr>
          <p:spPr>
            <a:xfrm>
              <a:off x="7010280" y="1905120"/>
              <a:ext cx="30492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>
              <a:off x="6629400" y="2286000"/>
              <a:ext cx="685800" cy="4572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32" h="288">
                  <a:moveTo>
                    <a:pt x="432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432" y="96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7"/>
            <p:cNvSpPr/>
            <p:nvPr/>
          </p:nvSpPr>
          <p:spPr>
            <a:xfrm>
              <a:off x="6248520" y="2133720"/>
              <a:ext cx="761760" cy="30456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80" h="192">
                  <a:moveTo>
                    <a:pt x="240" y="96"/>
                  </a:moveTo>
                  <a:lnTo>
                    <a:pt x="336" y="96"/>
                  </a:lnTo>
                  <a:lnTo>
                    <a:pt x="336" y="192"/>
                  </a:lnTo>
                  <a:lnTo>
                    <a:pt x="480" y="192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40" y="192"/>
                  </a:lnTo>
                  <a:lnTo>
                    <a:pt x="240" y="9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"/>
            <p:cNvSpPr/>
            <p:nvPr/>
          </p:nvSpPr>
          <p:spPr>
            <a:xfrm>
              <a:off x="6019920" y="2057400"/>
              <a:ext cx="990360" cy="53352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24" h="336">
                  <a:moveTo>
                    <a:pt x="624" y="48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384" y="336"/>
                  </a:lnTo>
                  <a:lnTo>
                    <a:pt x="384" y="240"/>
                  </a:lnTo>
                  <a:lnTo>
                    <a:pt x="144" y="240"/>
                  </a:lnTo>
                  <a:lnTo>
                    <a:pt x="144" y="48"/>
                  </a:lnTo>
                  <a:lnTo>
                    <a:pt x="624" y="48"/>
                  </a:lnTo>
                  <a:close/>
                </a:path>
              </a:pathLst>
            </a:custGeom>
            <a:solidFill>
              <a:srgbClr val="3300ff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9"/>
            <p:cNvSpPr/>
            <p:nvPr/>
          </p:nvSpPr>
          <p:spPr>
            <a:xfrm>
              <a:off x="5638680" y="1523880"/>
              <a:ext cx="2133720" cy="160020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344" h="1008">
                  <a:moveTo>
                    <a:pt x="192" y="0"/>
                  </a:moveTo>
                  <a:lnTo>
                    <a:pt x="192" y="240"/>
                  </a:lnTo>
                  <a:lnTo>
                    <a:pt x="864" y="240"/>
                  </a:lnTo>
                  <a:lnTo>
                    <a:pt x="864" y="336"/>
                  </a:lnTo>
                  <a:lnTo>
                    <a:pt x="240" y="336"/>
                  </a:lnTo>
                  <a:lnTo>
                    <a:pt x="240" y="864"/>
                  </a:lnTo>
                  <a:lnTo>
                    <a:pt x="1344" y="864"/>
                  </a:lnTo>
                  <a:lnTo>
                    <a:pt x="1344" y="1008"/>
                  </a:lnTo>
                  <a:lnTo>
                    <a:pt x="0" y="1008"/>
                  </a:lnTo>
                  <a:lnTo>
                    <a:pt x="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0"/>
            <p:cNvSpPr/>
            <p:nvPr/>
          </p:nvSpPr>
          <p:spPr>
            <a:xfrm>
              <a:off x="6019920" y="2590920"/>
              <a:ext cx="1752480" cy="30456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104" h="192">
                  <a:moveTo>
                    <a:pt x="1104" y="192"/>
                  </a:moveTo>
                  <a:lnTo>
                    <a:pt x="1104" y="96"/>
                  </a:lnTo>
                  <a:lnTo>
                    <a:pt x="384" y="96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104" y="19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AF34-4339-4645-A52A-C48F312C7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Solving a puzzl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puzzle, all holes but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illed with white p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jump over one pe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ped pegs are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 is to remove 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last 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have enough information to jump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hoice leads to another set of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sequences of choices may (or may not) lead to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kinds of puzzle can be solved with back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60"/>
          <p:cNvGrpSpPr/>
          <p:nvPr/>
        </p:nvGrpSpPr>
        <p:grpSpPr>
          <a:xfrm>
            <a:off x="5562720" y="1752480"/>
            <a:ext cx="2136600" cy="2133720"/>
            <a:chOff x="5562720" y="1752480"/>
            <a:chExt cx="2136600" cy="2133720"/>
          </a:xfrm>
        </p:grpSpPr>
        <p:sp>
          <p:nvSpPr>
            <p:cNvPr id="128" name="Rectangle 6"/>
            <p:cNvSpPr/>
            <p:nvPr/>
          </p:nvSpPr>
          <p:spPr>
            <a:xfrm>
              <a:off x="6248520" y="2438280"/>
              <a:ext cx="761760" cy="7621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6248520" y="3200400"/>
              <a:ext cx="761760" cy="685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248520" y="1752480"/>
              <a:ext cx="761760" cy="685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562720" y="2438280"/>
              <a:ext cx="685800" cy="7621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7010280" y="2438280"/>
              <a:ext cx="685800" cy="7621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2"/>
            <p:cNvSpPr/>
            <p:nvPr/>
          </p:nvSpPr>
          <p:spPr>
            <a:xfrm>
              <a:off x="5638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3"/>
            <p:cNvSpPr/>
            <p:nvPr/>
          </p:nvSpPr>
          <p:spPr>
            <a:xfrm>
              <a:off x="56386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4"/>
            <p:cNvSpPr/>
            <p:nvPr/>
          </p:nvSpPr>
          <p:spPr>
            <a:xfrm>
              <a:off x="58672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56386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58672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58672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60958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9"/>
            <p:cNvSpPr/>
            <p:nvPr/>
          </p:nvSpPr>
          <p:spPr>
            <a:xfrm>
              <a:off x="60958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20"/>
            <p:cNvSpPr/>
            <p:nvPr/>
          </p:nvSpPr>
          <p:spPr>
            <a:xfrm>
              <a:off x="63244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21"/>
            <p:cNvSpPr/>
            <p:nvPr/>
          </p:nvSpPr>
          <p:spPr>
            <a:xfrm>
              <a:off x="60958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22"/>
            <p:cNvSpPr/>
            <p:nvPr/>
          </p:nvSpPr>
          <p:spPr>
            <a:xfrm>
              <a:off x="63244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23"/>
            <p:cNvSpPr/>
            <p:nvPr/>
          </p:nvSpPr>
          <p:spPr>
            <a:xfrm>
              <a:off x="6324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4"/>
            <p:cNvSpPr/>
            <p:nvPr/>
          </p:nvSpPr>
          <p:spPr>
            <a:xfrm>
              <a:off x="65530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5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6"/>
            <p:cNvSpPr/>
            <p:nvPr/>
          </p:nvSpPr>
          <p:spPr>
            <a:xfrm>
              <a:off x="67816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7"/>
            <p:cNvSpPr/>
            <p:nvPr/>
          </p:nvSpPr>
          <p:spPr>
            <a:xfrm>
              <a:off x="65530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28"/>
            <p:cNvSpPr/>
            <p:nvPr/>
          </p:nvSpPr>
          <p:spPr>
            <a:xfrm>
              <a:off x="67816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29"/>
            <p:cNvSpPr/>
            <p:nvPr/>
          </p:nvSpPr>
          <p:spPr>
            <a:xfrm>
              <a:off x="6781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0"/>
            <p:cNvSpPr/>
            <p:nvPr/>
          </p:nvSpPr>
          <p:spPr>
            <a:xfrm>
              <a:off x="70102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1"/>
            <p:cNvSpPr/>
            <p:nvPr/>
          </p:nvSpPr>
          <p:spPr>
            <a:xfrm>
              <a:off x="70102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2"/>
            <p:cNvSpPr/>
            <p:nvPr/>
          </p:nvSpPr>
          <p:spPr>
            <a:xfrm>
              <a:off x="72388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3"/>
            <p:cNvSpPr/>
            <p:nvPr/>
          </p:nvSpPr>
          <p:spPr>
            <a:xfrm>
              <a:off x="70102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>
              <a:off x="72388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5"/>
            <p:cNvSpPr/>
            <p:nvPr/>
          </p:nvSpPr>
          <p:spPr>
            <a:xfrm>
              <a:off x="72388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6"/>
            <p:cNvSpPr/>
            <p:nvPr/>
          </p:nvSpPr>
          <p:spPr>
            <a:xfrm>
              <a:off x="7467480" y="2743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7"/>
            <p:cNvSpPr/>
            <p:nvPr/>
          </p:nvSpPr>
          <p:spPr>
            <a:xfrm>
              <a:off x="7467480" y="2971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38"/>
            <p:cNvSpPr/>
            <p:nvPr/>
          </p:nvSpPr>
          <p:spPr>
            <a:xfrm>
              <a:off x="7467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39"/>
            <p:cNvSpPr/>
            <p:nvPr/>
          </p:nvSpPr>
          <p:spPr>
            <a:xfrm>
              <a:off x="6324480" y="2057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40"/>
            <p:cNvSpPr/>
            <p:nvPr/>
          </p:nvSpPr>
          <p:spPr>
            <a:xfrm>
              <a:off x="6324480" y="2286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41"/>
            <p:cNvSpPr/>
            <p:nvPr/>
          </p:nvSpPr>
          <p:spPr>
            <a:xfrm>
              <a:off x="63244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42"/>
            <p:cNvSpPr/>
            <p:nvPr/>
          </p:nvSpPr>
          <p:spPr>
            <a:xfrm>
              <a:off x="65530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43"/>
            <p:cNvSpPr/>
            <p:nvPr/>
          </p:nvSpPr>
          <p:spPr>
            <a:xfrm>
              <a:off x="6553080" y="2057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44"/>
            <p:cNvSpPr/>
            <p:nvPr/>
          </p:nvSpPr>
          <p:spPr>
            <a:xfrm>
              <a:off x="6781680" y="2057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45"/>
            <p:cNvSpPr/>
            <p:nvPr/>
          </p:nvSpPr>
          <p:spPr>
            <a:xfrm>
              <a:off x="6553080" y="2286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46"/>
            <p:cNvSpPr/>
            <p:nvPr/>
          </p:nvSpPr>
          <p:spPr>
            <a:xfrm>
              <a:off x="6781680" y="2286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47"/>
            <p:cNvSpPr/>
            <p:nvPr/>
          </p:nvSpPr>
          <p:spPr>
            <a:xfrm>
              <a:off x="67816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32448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6324480" y="365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50"/>
            <p:cNvSpPr/>
            <p:nvPr/>
          </p:nvSpPr>
          <p:spPr>
            <a:xfrm>
              <a:off x="6324480" y="3200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51"/>
            <p:cNvSpPr/>
            <p:nvPr/>
          </p:nvSpPr>
          <p:spPr>
            <a:xfrm>
              <a:off x="6553080" y="3200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52"/>
            <p:cNvSpPr/>
            <p:nvPr/>
          </p:nvSpPr>
          <p:spPr>
            <a:xfrm>
              <a:off x="655308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53"/>
            <p:cNvSpPr/>
            <p:nvPr/>
          </p:nvSpPr>
          <p:spPr>
            <a:xfrm>
              <a:off x="678168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54"/>
            <p:cNvSpPr/>
            <p:nvPr/>
          </p:nvSpPr>
          <p:spPr>
            <a:xfrm>
              <a:off x="6553080" y="365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55"/>
            <p:cNvSpPr/>
            <p:nvPr/>
          </p:nvSpPr>
          <p:spPr>
            <a:xfrm>
              <a:off x="6781680" y="365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56"/>
            <p:cNvSpPr/>
            <p:nvPr/>
          </p:nvSpPr>
          <p:spPr>
            <a:xfrm>
              <a:off x="6781680" y="3200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58"/>
            <p:cNvSpPr/>
            <p:nvPr/>
          </p:nvSpPr>
          <p:spPr>
            <a:xfrm>
              <a:off x="5562720" y="1752480"/>
              <a:ext cx="2136600" cy="2133720"/>
            </a:xfrm>
            <a:custGeom>
              <a:avLst/>
              <a:gdLst>
                <a:gd name="textAreaLeft" fmla="*/ 0 w 2136600"/>
                <a:gd name="textAreaRight" fmla="*/ 2136960 w 21366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346" h="1344">
                  <a:moveTo>
                    <a:pt x="2" y="432"/>
                  </a:moveTo>
                  <a:lnTo>
                    <a:pt x="434" y="432"/>
                  </a:lnTo>
                  <a:lnTo>
                    <a:pt x="434" y="0"/>
                  </a:lnTo>
                  <a:lnTo>
                    <a:pt x="914" y="0"/>
                  </a:lnTo>
                  <a:lnTo>
                    <a:pt x="914" y="432"/>
                  </a:lnTo>
                  <a:lnTo>
                    <a:pt x="1346" y="432"/>
                  </a:lnTo>
                  <a:lnTo>
                    <a:pt x="1346" y="912"/>
                  </a:lnTo>
                  <a:lnTo>
                    <a:pt x="914" y="912"/>
                  </a:lnTo>
                  <a:lnTo>
                    <a:pt x="914" y="1344"/>
                  </a:lnTo>
                  <a:lnTo>
                    <a:pt x="434" y="1344"/>
                  </a:lnTo>
                  <a:lnTo>
                    <a:pt x="434" y="912"/>
                  </a:lnTo>
                  <a:lnTo>
                    <a:pt x="0" y="910"/>
                  </a:lnTo>
                  <a:lnTo>
                    <a:pt x="2" y="432"/>
                  </a:lnTo>
                  <a:close/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C99B-6EC3-4CFA-B147-FBE3292EE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Backtracking (animation)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62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1442880" y="3962520"/>
            <a:ext cx="758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2096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2438280" y="2514240"/>
            <a:ext cx="914400" cy="1219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2514600" y="396252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352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2"/>
          <p:cNvSpPr/>
          <p:nvPr/>
        </p:nvSpPr>
        <p:spPr>
          <a:xfrm flipV="1">
            <a:off x="3657600" y="2057040"/>
            <a:ext cx="83808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657600" y="2590920"/>
            <a:ext cx="685800" cy="228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3434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495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8"/>
          <p:cNvSpPr/>
          <p:nvPr/>
        </p:nvSpPr>
        <p:spPr>
          <a:xfrm flipH="1">
            <a:off x="3733920" y="2209680"/>
            <a:ext cx="83808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9"/>
          <p:cNvSpPr/>
          <p:nvPr/>
        </p:nvSpPr>
        <p:spPr>
          <a:xfrm flipH="1" flipV="1">
            <a:off x="3580920" y="2742840"/>
            <a:ext cx="762120" cy="228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0"/>
          <p:cNvSpPr/>
          <p:nvPr/>
        </p:nvSpPr>
        <p:spPr>
          <a:xfrm flipH="1">
            <a:off x="2590920" y="2819520"/>
            <a:ext cx="761760" cy="99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2"/>
          <p:cNvSpPr/>
          <p:nvPr/>
        </p:nvSpPr>
        <p:spPr>
          <a:xfrm flipV="1">
            <a:off x="3657600" y="3657240"/>
            <a:ext cx="685800" cy="228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43434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4648320" y="3123720"/>
            <a:ext cx="1523880" cy="3812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4724280" y="3733920"/>
            <a:ext cx="1371600" cy="304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0199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1722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8"/>
          <p:cNvSpPr/>
          <p:nvPr/>
        </p:nvSpPr>
        <p:spPr>
          <a:xfrm flipH="1">
            <a:off x="4724280" y="3276720"/>
            <a:ext cx="1524240" cy="3808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9"/>
          <p:cNvSpPr/>
          <p:nvPr/>
        </p:nvSpPr>
        <p:spPr>
          <a:xfrm flipH="1" flipV="1">
            <a:off x="4648320" y="3885840"/>
            <a:ext cx="129528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0"/>
          <p:cNvSpPr/>
          <p:nvPr/>
        </p:nvSpPr>
        <p:spPr>
          <a:xfrm flipH="1">
            <a:off x="3657240" y="3809880"/>
            <a:ext cx="685800" cy="228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3505320" y="41911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41911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3"/>
          <p:cNvSpPr/>
          <p:nvPr/>
        </p:nvSpPr>
        <p:spPr>
          <a:xfrm flipV="1">
            <a:off x="4495680" y="4571640"/>
            <a:ext cx="83844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4"/>
          <p:cNvSpPr/>
          <p:nvPr/>
        </p:nvSpPr>
        <p:spPr>
          <a:xfrm>
            <a:off x="4495680" y="5105520"/>
            <a:ext cx="762120" cy="3808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51814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cc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3341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7"/>
          <p:cNvSpPr/>
          <p:nvPr/>
        </p:nvSpPr>
        <p:spPr>
          <a:xfrm flipH="1">
            <a:off x="4572000" y="4724280"/>
            <a:ext cx="83808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ubstituent număr diapozitiv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7301-D631-43AA-932A-C1BE2497C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erminology I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grpSp>
        <p:nvGrpSpPr>
          <p:cNvPr id="213" name="Group 43"/>
          <p:cNvGrpSpPr/>
          <p:nvPr/>
        </p:nvGrpSpPr>
        <p:grpSpPr>
          <a:xfrm>
            <a:off x="3733920" y="1752480"/>
            <a:ext cx="4572000" cy="2971800"/>
            <a:chOff x="3733920" y="1752480"/>
            <a:chExt cx="4572000" cy="2971800"/>
          </a:xfrm>
        </p:grpSpPr>
        <p:sp>
          <p:nvSpPr>
            <p:cNvPr id="214" name="Oval 4"/>
            <p:cNvSpPr/>
            <p:nvPr/>
          </p:nvSpPr>
          <p:spPr>
            <a:xfrm>
              <a:off x="3733920" y="31240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>
              <a:off x="6934320" y="1752480"/>
              <a:ext cx="30456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6"/>
            <p:cNvSpPr/>
            <p:nvPr/>
          </p:nvSpPr>
          <p:spPr>
            <a:xfrm>
              <a:off x="5791320" y="3352680"/>
              <a:ext cx="304560" cy="304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7"/>
            <p:cNvSpPr/>
            <p:nvPr/>
          </p:nvSpPr>
          <p:spPr>
            <a:xfrm>
              <a:off x="4648320" y="228564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8"/>
            <p:cNvSpPr/>
            <p:nvPr/>
          </p:nvSpPr>
          <p:spPr>
            <a:xfrm>
              <a:off x="5791320" y="228564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9"/>
            <p:cNvSpPr/>
            <p:nvPr/>
          </p:nvSpPr>
          <p:spPr>
            <a:xfrm>
              <a:off x="6934320" y="259056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10"/>
            <p:cNvSpPr/>
            <p:nvPr/>
          </p:nvSpPr>
          <p:spPr>
            <a:xfrm>
              <a:off x="4648320" y="388584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11"/>
            <p:cNvSpPr/>
            <p:nvPr/>
          </p:nvSpPr>
          <p:spPr>
            <a:xfrm>
              <a:off x="5791320" y="388584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2"/>
            <p:cNvSpPr/>
            <p:nvPr/>
          </p:nvSpPr>
          <p:spPr>
            <a:xfrm>
              <a:off x="6934320" y="419076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3"/>
            <p:cNvSpPr/>
            <p:nvPr/>
          </p:nvSpPr>
          <p:spPr>
            <a:xfrm>
              <a:off x="5791320" y="441936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14"/>
            <p:cNvSpPr/>
            <p:nvPr/>
          </p:nvSpPr>
          <p:spPr>
            <a:xfrm>
              <a:off x="6934320" y="342864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15"/>
            <p:cNvSpPr/>
            <p:nvPr/>
          </p:nvSpPr>
          <p:spPr>
            <a:xfrm>
              <a:off x="8001000" y="175248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16"/>
            <p:cNvSpPr/>
            <p:nvPr/>
          </p:nvSpPr>
          <p:spPr>
            <a:xfrm>
              <a:off x="8001000" y="289548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17"/>
            <p:cNvSpPr/>
            <p:nvPr/>
          </p:nvSpPr>
          <p:spPr>
            <a:xfrm>
              <a:off x="8001000" y="342864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18"/>
            <p:cNvSpPr/>
            <p:nvPr/>
          </p:nvSpPr>
          <p:spPr>
            <a:xfrm>
              <a:off x="8001000" y="396216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3962520" y="3352680"/>
              <a:ext cx="761760" cy="60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 flipV="1">
              <a:off x="3962520" y="2590560"/>
              <a:ext cx="685800" cy="53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952880" y="2438280"/>
              <a:ext cx="838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 flipV="1">
              <a:off x="6019920" y="1981080"/>
              <a:ext cx="91440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6095880" y="2514240"/>
              <a:ext cx="83844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7238880" y="1904760"/>
              <a:ext cx="762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 flipV="1">
              <a:off x="4952880" y="3581280"/>
              <a:ext cx="83844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952880" y="4038480"/>
              <a:ext cx="838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76920" y="4114440"/>
              <a:ext cx="914400" cy="38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 flipV="1">
              <a:off x="6095880" y="3581280"/>
              <a:ext cx="83844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6095880" y="4114440"/>
              <a:ext cx="83844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1"/>
            <p:cNvSpPr/>
            <p:nvPr/>
          </p:nvSpPr>
          <p:spPr>
            <a:xfrm flipV="1">
              <a:off x="7238880" y="3124080"/>
              <a:ext cx="76212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32"/>
            <p:cNvSpPr/>
            <p:nvPr/>
          </p:nvSpPr>
          <p:spPr>
            <a:xfrm>
              <a:off x="7238880" y="3581280"/>
              <a:ext cx="762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3"/>
            <p:cNvSpPr/>
            <p:nvPr/>
          </p:nvSpPr>
          <p:spPr>
            <a:xfrm>
              <a:off x="7162920" y="3657240"/>
              <a:ext cx="838080" cy="38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34"/>
          <p:cNvSpPr/>
          <p:nvPr/>
        </p:nvSpPr>
        <p:spPr>
          <a:xfrm>
            <a:off x="838080" y="3809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hree kinds of n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914400" y="160020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is composed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44"/>
          <p:cNvGrpSpPr/>
          <p:nvPr/>
        </p:nvGrpSpPr>
        <p:grpSpPr>
          <a:xfrm>
            <a:off x="990720" y="4648320"/>
            <a:ext cx="4038480" cy="459720"/>
            <a:chOff x="990720" y="4648320"/>
            <a:chExt cx="4038480" cy="459720"/>
          </a:xfrm>
        </p:grpSpPr>
        <p:sp>
          <p:nvSpPr>
            <p:cNvPr id="246" name="Oval 37"/>
            <p:cNvSpPr/>
            <p:nvPr/>
          </p:nvSpPr>
          <p:spPr>
            <a:xfrm>
              <a:off x="990720" y="47246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40"/>
            <p:cNvSpPr/>
            <p:nvPr/>
          </p:nvSpPr>
          <p:spPr>
            <a:xfrm>
              <a:off x="1295280" y="4648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(one)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oo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45"/>
          <p:cNvGrpSpPr/>
          <p:nvPr/>
        </p:nvGrpSpPr>
        <p:grpSpPr>
          <a:xfrm>
            <a:off x="990720" y="5105520"/>
            <a:ext cx="4190760" cy="459720"/>
            <a:chOff x="990720" y="5105520"/>
            <a:chExt cx="4190760" cy="459720"/>
          </a:xfrm>
        </p:grpSpPr>
        <p:sp>
          <p:nvSpPr>
            <p:cNvPr id="249" name="Oval 38"/>
            <p:cNvSpPr/>
            <p:nvPr/>
          </p:nvSpPr>
          <p:spPr>
            <a:xfrm>
              <a:off x="990720" y="5181840"/>
              <a:ext cx="30456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1"/>
            <p:cNvSpPr/>
            <p:nvPr/>
          </p:nvSpPr>
          <p:spPr>
            <a:xfrm>
              <a:off x="1371600" y="510552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ntern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46"/>
          <p:cNvGrpSpPr/>
          <p:nvPr/>
        </p:nvGrpSpPr>
        <p:grpSpPr>
          <a:xfrm>
            <a:off x="990720" y="5562720"/>
            <a:ext cx="2743200" cy="459720"/>
            <a:chOff x="990720" y="5562720"/>
            <a:chExt cx="2743200" cy="459720"/>
          </a:xfrm>
        </p:grpSpPr>
        <p:sp>
          <p:nvSpPr>
            <p:cNvPr id="252" name="Oval 39"/>
            <p:cNvSpPr/>
            <p:nvPr/>
          </p:nvSpPr>
          <p:spPr>
            <a:xfrm>
              <a:off x="990720" y="56390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42"/>
            <p:cNvSpPr/>
            <p:nvPr/>
          </p:nvSpPr>
          <p:spPr>
            <a:xfrm>
              <a:off x="1371600" y="55627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ea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47"/>
          <p:cNvSpPr/>
          <p:nvPr/>
        </p:nvSpPr>
        <p:spPr>
          <a:xfrm>
            <a:off x="4343400" y="49528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thought of as searching a tree for a particular “goal” leaf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ubstituent număr diapozitiv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80B7-B568-41AC-857F-CFA67748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erminology II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n-leaf node in a tree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ne or more other nodes (i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in the tree, other than the root, has exactly o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6"/>
          <p:cNvGrpSpPr/>
          <p:nvPr/>
        </p:nvGrpSpPr>
        <p:grpSpPr>
          <a:xfrm>
            <a:off x="1066680" y="4038480"/>
            <a:ext cx="2667240" cy="1831320"/>
            <a:chOff x="1066680" y="4038480"/>
            <a:chExt cx="2667240" cy="1831320"/>
          </a:xfrm>
        </p:grpSpPr>
        <p:sp>
          <p:nvSpPr>
            <p:cNvPr id="259" name="Oval 6"/>
            <p:cNvSpPr/>
            <p:nvPr/>
          </p:nvSpPr>
          <p:spPr>
            <a:xfrm>
              <a:off x="1447920" y="4572000"/>
              <a:ext cx="30456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2819520" y="403848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2819520" y="4572000"/>
              <a:ext cx="30456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2819520" y="5105160"/>
              <a:ext cx="304560" cy="30492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1752480" y="4724280"/>
              <a:ext cx="106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 flipV="1">
              <a:off x="1676520" y="4267080"/>
              <a:ext cx="114300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1676520" y="4800600"/>
              <a:ext cx="1143000" cy="380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106668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2438280" y="54100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ldr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27"/>
          <p:cNvGrpSpPr/>
          <p:nvPr/>
        </p:nvGrpSpPr>
        <p:grpSpPr>
          <a:xfrm>
            <a:off x="6513480" y="3429000"/>
            <a:ext cx="1410840" cy="2517120"/>
            <a:chOff x="6513480" y="3429000"/>
            <a:chExt cx="1410840" cy="2517120"/>
          </a:xfrm>
        </p:grpSpPr>
        <p:sp>
          <p:nvSpPr>
            <p:cNvPr id="269" name="Oval 16"/>
            <p:cNvSpPr/>
            <p:nvPr/>
          </p:nvSpPr>
          <p:spPr>
            <a:xfrm rot="5400000">
              <a:off x="7046280" y="3846240"/>
              <a:ext cx="30492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17"/>
            <p:cNvSpPr/>
            <p:nvPr/>
          </p:nvSpPr>
          <p:spPr>
            <a:xfrm rot="5400000">
              <a:off x="7579440" y="5218200"/>
              <a:ext cx="304920" cy="30420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Oval 18"/>
            <p:cNvSpPr/>
            <p:nvPr/>
          </p:nvSpPr>
          <p:spPr>
            <a:xfrm rot="5400000">
              <a:off x="7046280" y="5217840"/>
              <a:ext cx="30492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19"/>
            <p:cNvSpPr/>
            <p:nvPr/>
          </p:nvSpPr>
          <p:spPr>
            <a:xfrm rot="5400000">
              <a:off x="6513120" y="5217840"/>
              <a:ext cx="304920" cy="304560"/>
            </a:xfrm>
            <a:prstGeom prst="ellipse">
              <a:avLst/>
            </a:prstGeom>
            <a:solidFill>
              <a:srgbClr val="ffff99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0"/>
            <p:cNvSpPr/>
            <p:nvPr/>
          </p:nvSpPr>
          <p:spPr>
            <a:xfrm>
              <a:off x="7198920" y="4151160"/>
              <a:ext cx="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1"/>
            <p:cNvSpPr/>
            <p:nvPr/>
          </p:nvSpPr>
          <p:spPr>
            <a:xfrm>
              <a:off x="7275240" y="4074120"/>
              <a:ext cx="380520" cy="114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2"/>
            <p:cNvSpPr/>
            <p:nvPr/>
          </p:nvSpPr>
          <p:spPr>
            <a:xfrm flipH="1">
              <a:off x="6741720" y="4074840"/>
              <a:ext cx="380880" cy="114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23"/>
            <p:cNvSpPr/>
            <p:nvPr/>
          </p:nvSpPr>
          <p:spPr>
            <a:xfrm>
              <a:off x="6705360" y="342900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24"/>
            <p:cNvSpPr/>
            <p:nvPr/>
          </p:nvSpPr>
          <p:spPr>
            <a:xfrm>
              <a:off x="6629040" y="54864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ldr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28"/>
          <p:cNvSpPr/>
          <p:nvPr/>
        </p:nvSpPr>
        <p:spPr>
          <a:xfrm>
            <a:off x="3733920" y="38098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, however, we draw our tre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wnward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root at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5:15:17Z</dcterms:created>
  <dc:creator>David Matuszek</dc:creator>
  <dc:description/>
  <dc:language>en-US</dc:language>
  <cp:lastModifiedBy>Cntv</cp:lastModifiedBy>
  <dcterms:modified xsi:type="dcterms:W3CDTF">2011-03-01T14:17:41Z</dcterms:modified>
  <cp:revision>12</cp:revision>
  <dc:subject/>
  <dc:title>Backtracking</dc:title>
</cp:coreProperties>
</file>